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26B-180A-456A-8F3A-D52B58BF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2E6-58C1-407F-9437-766C4FA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B35-8CD3-4E58-8367-DC8FD53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C83-71FC-4FFA-9D60-1F186F31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8F9-8DC7-4DFA-BD36-FBAE02A5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578-57FA-4AB8-9E95-64241C2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6C1-F408-4745-95B2-8D525CD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DF0-1AD7-48E7-8A98-EA59D59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EEE-2594-4618-871E-FDFF8F7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636-6482-43D9-A394-B9A7FAE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3C7-B92A-4C2C-AA52-8EBADD0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6D3-1F6E-417C-917B-39FEDE9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1961-3C61-468F-940F-A227E5B617E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注目看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Look Upon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10Z</dcterms:created>
  <dc:creator> </dc:creator>
  <dc:description/>
  <dc:language>en-US</dc:language>
  <cp:lastModifiedBy> </cp:lastModifiedBy>
  <dcterms:modified xsi:type="dcterms:W3CDTF">2004-06-16T01:32:18Z</dcterms:modified>
  <cp:revision>1</cp:revision>
  <dc:subject/>
  <dc:title>注目看耶穌 (1/2)  [Look Upon Jesus]</dc:title>
</cp:coreProperties>
</file>